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38A-088A-40D4-8442-B8ACDBE0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70E-5507-41D8-B52C-155B8BAB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70C-5CFC-4DCB-AD48-795DD622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229-FAA0-4A57-B3C4-4E065378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EDF-35ED-4C02-9B66-A987CDD3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632-5B8F-4266-8BC7-01632EBE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25F-2B6C-4C23-A790-115D8272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80C-D421-4834-A9F7-55FE5809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C6D-785B-4BAE-8ADD-3AA008E3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689-9DAC-4F1E-805D-6C7F01C0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0F7-CF10-43D5-9A43-495B7E17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C88-827C-423D-AA2C-194DCBB4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F9D4-48F0-4129-9E2D-AC9E668C5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erriam-webster.com/dictionary/commonwealth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rldhistory.abc-clio.com/Search/Display.aspx?categoryid=22&amp;entryid=317484&amp;searchtext=james+i&amp;type=simple&amp;option=al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rldhistory.abc-clio.com/Search/Display.aspx?categoryid=23&amp;entryid=682119&amp;searchtext=house+of+commons&amp;type=simple&amp;option=all&amp;searchsites=5,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history.abc-clio.com/Search/Display.aspx?categoryid=22&amp;entryid=316961&amp;searchtext=charles+i&amp;type=simple&amp;option=al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itutionalism in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The Engl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The Commons passed an act compelling the king to summon Parliament every three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It also impeached Archbishop Laud and abolished the House of L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The Engl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Religious differences in Ireland led to a revolt there, but Parliament would not trust Charles with an ar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The Engl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les initiated military action against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The civil war (1642-1649) revolved around the issue of whether sovereignty should reside in the king or in Parlia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The Engl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The problem was not resolved, but Charles was beheaded in 16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: Cromwell and the Protecto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the execution of Charles I, kingship was abolished in 1649 and a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monwealth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lai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A commonwealth is a government without a king whose poweer rests in Parliament and a council of 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n fact, the army controlled the government; it wrote a contitution called the Instrument of Government which gave power to Cro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iver Cromwell, leader of the “New Model Army” that defeated the royalists, came from the gentry class that dominated the House of Comm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mwell’s Protectorate became a military dictatorship, absolutist and puritan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Cromwell allowed religious toleration for all Christians, except Roman Catholics, and savagely crushed the revolt in Ire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He censored the press and closed the thea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He regulated the economy according to mercantilist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the limitation of the state by law, under constitutionalism, the state must be governed according to law, not royal dec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. Puritanical absolutism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ercantilist navigation act that required English goods to be transported on English ships was a boom to the economy and led to a commercial war with the Du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mplies a balance between the power of government and the right of the su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ations constitution may be written or unwritten, but the government must respect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0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itutional governments may be either republics or monarch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Constitutional governmen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s not the same as full democrac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ecause not all of the people have the right to particip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The decline of royal absolut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uart kings of England lacked the political wisdom of Elizabeth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mes I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s devoted to the idea or rule by divine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absolutism ran counter to English bel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The decline of royal absolut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The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ouse of Common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anted a greater say in the government of the 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increased wealth had produce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etter educated House o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Between 1603 and 1640, bitt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quabbles erupted between th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wn and the Com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The Protestant, or capitalist, ethic and problem of religion in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The Protesta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English people, called Puritans, were attracted by the values of hard work, thrift, and self-denial implied by Calvi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uritans, who were dissatisfied with the Church of England, saw James I as an ene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les I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nd his archbishop, Laud, appeared to be pro-Cat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. The English Civi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les I had ruled without Parliament for eleven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revolt in Scotland over the religious issue forced him to call a new Parliament into session to finance an ar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9:04:23Z</dcterms:created>
  <dc:creator>umsd</dc:creator>
  <dc:description/>
  <dc:language>en-US</dc:language>
  <cp:lastModifiedBy>umsd</cp:lastModifiedBy>
  <dcterms:modified xsi:type="dcterms:W3CDTF">2008-12-05T12:58:44Z</dcterms:modified>
  <cp:revision>4</cp:revision>
  <dc:subject/>
  <dc:title>Constitutionalism in England</dc:title>
</cp:coreProperties>
</file>